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0F6-725D-41B4-BCA2-5CD6A694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4D2-61A0-4D9A-81DB-5C9A03B4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4DD5D-AD79-46AB-A30C-9BF7CCC9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A0529-57E4-4B39-95E1-2463C48D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28D17-75CE-443F-B871-F407FEAE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C9E8D-3DD2-4EB9-AA31-25B9103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AA18F-9F6E-4DAE-A827-53620C5C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4E15D-0B8C-4EC4-B7F6-397C11D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D6521-8EEF-4459-A9B2-A1915DAD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85827-F2A0-4430-91D9-E80D42EB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EF99B-6740-4136-8C3D-9A648C6F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1B4CC-8A18-4A95-8350-38FE37FD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623-B16D-424C-9D23-72ADA22F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B8572-E7C4-4F4A-B708-E14B7F86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DAED0-13AC-475C-AA5A-47C91C6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BDA73-B531-40A2-8F35-12E6CA34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4261C-A2C4-4B67-B26B-1E6F002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CCBBE-8A92-427C-85E1-BB346C07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58854-848E-4318-B473-623050DD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1A226-85AB-46E6-ABEA-0CEB7795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02322-55BC-4332-89DC-BD1084D6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6DCB0-C523-47C7-9814-980678BB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CF279-E223-45C0-83D8-8EB28812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F3E-9877-40C6-AC97-AFD84791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3D96B-9C03-4D81-98B4-8C7D7A35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7C43-CDD7-4EF7-BFF4-E0AEA908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4D69-216F-4F40-ACA9-788CEF51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D175-E8B3-44C9-86B1-C335AB82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1518-52EC-4918-B64B-401B5FC2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6E89-6FEF-4103-9A2B-516ADC06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BF03-F01F-450E-AD37-901D2355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30F4-E77D-4B1E-BD7E-1913BCE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690-ED7F-4879-90E0-2842324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EDED-4850-4906-AD67-5605BEE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972D-6DC8-4842-8174-A2DFBCCD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9F65-EDC4-465D-BA28-F218A7FF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87F7-0FA8-4038-A6F5-E4E0CE18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709A-B85D-4580-840B-EE3ECE23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8DC1-8D68-4814-8E9E-EFB86000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B57B6-D0D1-4C1B-829B-8A5628EC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64CE-2705-48D9-8DA2-CA8DD55F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D6F7-1D57-4F8E-BB2C-5BA59ED2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3526-5825-4598-99ED-5C62E4F7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6DF-E925-410B-B125-DBE5EBE3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9184-F18D-4BAA-BCE4-505DAC7B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5236-8913-4E9A-AF10-1B49FA3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6C00-3DFC-47A4-B5EF-9F2C0BA3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B136-9B42-4CF9-98AA-F0FC8AA0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AC54-7F39-4967-9534-873BC0F5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4D53-C979-4CC7-A0D1-59FEF7FE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FF96-C041-44F6-9418-D55B9D45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F4C12-A9FC-4402-B386-A7BCEDC9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157A-96BF-4160-9995-0EB7C222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C576-8E9F-4CA2-B64A-693BA412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897-8B62-44A0-82EC-CA3525D2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12F6-A70F-4BF5-BA6C-96C1FA9C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7BB0-37D0-41F4-A887-27C15949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34BC-E292-45A2-B1A4-D1E77F9F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3EEF4-D7CA-4854-A1FC-2F90F85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6E491-2825-4A63-896C-8D40C456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C805-6E5E-4B8D-975E-537BBC70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4875-4BA4-4FA8-A4EE-048F0FCA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6978-A224-4C46-91C8-75E8A7F1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34E57-E471-48F6-8772-F72E554B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5F3FA-90F2-4559-9A98-AFEFE01C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F3D-3202-479E-A83B-7C18BE5B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CB4C-2211-4002-9117-C1E7F18E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50E68-4F8C-4AD9-9307-D920241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4EB2-F645-4BFA-AAE7-1B163A3C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E9E18-FFD4-4FFC-97BE-5EA0CACC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5DF0F-CD94-448A-8F8C-1C07735E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E43D-6FE6-4ECD-B5C1-F5E311E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E9F3-02DB-4065-A62F-514173B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C913-1DAE-4EF1-9BD0-963017F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C155-B5E1-46DF-AD50-031B991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DBE2-D045-487D-BF5D-A323EAD2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E16-D7BF-4060-A474-F959CE5A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EC5A6-B59F-46D8-B55A-EF7B77D9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15907-0899-40E3-A374-01468F760C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C23A0-0F76-41CF-82DF-17C502056E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5186A-9FAC-4C51-B226-DA81D339AF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7D09F-6FFB-44BA-A5FB-F0C175E2896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9DE03-79A2-4F64-AD49-9767758D1B1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B1254-44E4-4A65-A41B-1E1EB1612C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A88CF-53A0-4215-8AB3-5BAFDEA375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EFC1D-410D-4847-8C9F-B857A0E539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1DE31-64A4-45FA-974D-EB7BBF638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5DD-457E-4916-8E0F-B8C6BEC9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12593-CF99-4EF2-B9E1-EE26EBF209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7DD7B-C19F-4FB7-8276-C77F2DC908B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5E1BF-551B-4715-AEBD-2A24F7593E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272561-DAF0-4FBD-8981-97BFDDEC02E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DF13FA-1134-4510-9831-D5C56BC163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414E6E-8A7D-4E89-A6D7-664B06D333D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46FB39-42D9-4CB4-98A8-8DE6046942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308393-9F64-4380-B113-B627F67505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FA71AC-C10A-4285-AD9E-77FD30FE9DF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511F6-246D-45A3-B316-45FB01ECD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12C-10C6-489D-8253-2D08FC8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92757-BC8A-4744-ABB6-8786D1B267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5526D5-EA46-4F14-8FFC-6AD39E3398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666A87-BCF9-47FE-9A5F-9F66635B07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994A49-97B4-49B2-B618-898A03EAA6E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3CA8A7-7D8F-444B-A107-67603E76451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C8E90D-07EF-42DF-9710-955A40D1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DC8166-6D53-456D-B007-88A16E1D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97A567-0A38-4B78-A5F5-55F189D1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8BB35E-A13E-4ADD-9AFC-8EEAB14F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AA5B60-C388-44FD-BC66-AD1A5AFF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B91-4FF2-4CA2-8793-97FB789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9F99B0-FA9C-4699-B207-A3F72F75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63BB1-3EB2-49C2-832C-21499CBD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F37F7E-18E4-4299-9EA2-1658BFF6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7887B1-9F53-44A9-8291-0182195C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C93508-E9FB-466C-80DD-184A5E2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12BE11-6D52-44CA-AC07-3AC7A094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3B7A30-3750-43EE-8B96-693DBFD4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B6190-FCF1-4515-B9E7-AF1F7E3A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54B5F-FF5C-4300-88BC-44FE43C6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99D27-230F-4691-A492-103C13D0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0E49C57-3F21-45A8-93D4-6049F8C2F7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17C267E-BA82-4A2C-8BA6-0EC1C7837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6E9B99B-16D7-454F-BB44-76AB29181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22AD7D6-F091-4DEA-AE6F-EBB80F8A7E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5F75B9D-726A-4414-BE05-3CABFC8A7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990010D-5534-48A7-B46D-588A27A34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38C6495-AB21-43F9-A96A-B51C98FC26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A284BBC-A142-4AB7-B393-F1258D6FE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sts in the Long Ru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 advantages achieved as a result of large-scale opera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ms in industries characterized by assembly-line production of standardized products tend to experience declining long-run average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industries are often dominated by a few large firm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9748B3E-389F-4C70-95D1-F296B52ED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asons for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plants are able to exploit specialization of labour on a far greater scale than small pl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-scale production encourages management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 scale production encourages machine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firms enjoy pecuniar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26E6E386-E0EE-4996-92F7-AE21D93D8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ecuniary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cost of borrow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l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es of scale in marketing and advertis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1135ADE-442D-4DD2-A5DC-FAEB61A529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115640" y="371160"/>
            <a:ext cx="7272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988AE73-19FA-4DC9-8C46-D07038848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ftp://ftp.eppg.com/Sayre%20Micro%20images/Chapter%207/SAYRE-MICRO-7-F-7-2.jpg"/>
          <p:cNvPicPr/>
          <p:nvPr/>
        </p:nvPicPr>
        <p:blipFill>
          <a:blip r:embed="rId1"/>
          <a:srcRect l="11507" t="11776" r="32612" b="0"/>
          <a:stretch/>
        </p:blipFill>
        <p:spPr>
          <a:xfrm>
            <a:off x="903240" y="1552680"/>
            <a:ext cx="6932520" cy="47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15470CF-A03B-4D51-AB1D-704071AEA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847DC5D-787C-4390-96AB-3C16BC07B5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10"/>
          <p:cNvSpPr/>
          <p:nvPr/>
        </p:nvSpPr>
        <p:spPr>
          <a:xfrm>
            <a:off x="584280" y="4851360"/>
            <a:ext cx="771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1:  increasing returns to scale.  (Average cost drop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from $171.43 to $16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2:  constant returns to scale.  (The average cost remain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same at $450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s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reaucratic inefficiencies in management that result in decreasing returns to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creasing Returns to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a smaller percentage tha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BBEB2BE-3AA7-4AB1-B5AD-43B50C20E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RAC Curve under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84CD4DA8-10C8-452C-8E87-5095E7E03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2" descr="ftp://ftp.eppg.com/Sayre%20Micro%20images/Chapter%207/SAYRE-MICRO-7-F-7-3.jpg"/>
          <p:cNvPicPr/>
          <p:nvPr/>
        </p:nvPicPr>
        <p:blipFill>
          <a:blip r:embed="rId1"/>
          <a:srcRect l="10145" t="11151" r="35676" b="0"/>
          <a:stretch/>
        </p:blipFill>
        <p:spPr>
          <a:xfrm>
            <a:off x="1414440" y="1454040"/>
            <a:ext cx="6315120" cy="49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CF94C4A-7DBB-4AE9-B12B-9CB7A6741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BAE3105-CB54-41FF-8F96-2C8E9ED73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542880" y="53341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returns to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B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conomies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36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Distinguish between the short run and the long run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why medium-sized firms are sometimes just as efficient as big firm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why big firms sometimes enjoy great cost advantag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nderstand why firms can sometimes be too big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ED43185-6589-4EC5-B4A8-F62437758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27791AD-6D33-43D5-8E22-2F4FFFC9E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52600" y="5322960"/>
            <a:ext cx="83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:  economies of scale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5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6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:  diseconomies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8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Changes in Short Ru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and Long Run Costs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echnological Improv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production techniques that reduce the costs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uses a decrease in short-run cos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long-run average cost curve is derived from short-run cost curves, the long-run average costs  also decreas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CC91691-27D6-444B-A6FA-2A1E60E97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1A8B3A3-A814-4A4D-90B6-9F792A32A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ftp://ftp.eppg.com/Sayre%20Micro%20images/Chapter%207/SAYRE-MICRO-7-F-7-4.jpg"/>
          <p:cNvPicPr/>
          <p:nvPr/>
        </p:nvPicPr>
        <p:blipFill>
          <a:blip r:embed="rId1"/>
          <a:srcRect l="-99" t="-1513" r="10109" b="0"/>
          <a:stretch/>
        </p:blipFill>
        <p:spPr>
          <a:xfrm>
            <a:off x="0" y="14796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4CED153-1A5F-4293-B627-A5E5C5387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ftp://ftp.eppg.com/Sayre%20Micro%20images/Chapter%207/SAYRE-MICRO-7-F-7-5.jpg"/>
          <p:cNvPicPr/>
          <p:nvPr/>
        </p:nvPicPr>
        <p:blipFill>
          <a:blip r:embed="rId1"/>
          <a:srcRect l="-119" t="-2579" r="-2003" b="0"/>
          <a:stretch/>
        </p:blipFill>
        <p:spPr>
          <a:xfrm>
            <a:off x="0" y="11476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8800" y="1775880"/>
            <a:ext cx="80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nimum Efficient Scale (MES)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mallest sized plant capable of achieving the lowest long-run average cost of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D7CD600-B994-4E29-AE66-A5D5720EB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57F3DB3-AAFD-4F14-AC33-08C094F60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ftp://ftp.eppg.com/Sayre%20Micro%20images/Chapter%207/SAYRE-MICRO-7-F-7-6.jpg"/>
          <p:cNvPicPr/>
          <p:nvPr/>
        </p:nvPicPr>
        <p:blipFill>
          <a:blip r:embed="rId1"/>
          <a:srcRect l="0" t="0" r="8158" b="0"/>
          <a:stretch/>
        </p:blipFill>
        <p:spPr>
          <a:xfrm>
            <a:off x="0" y="1542960"/>
            <a:ext cx="9144000" cy="447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D06C209-4DB9-494A-BB89-068CA3607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always operate in the short ru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can plan as if they are in the long run where all inputs are variable and diminishing marginal productivity does not app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tant returns to scale exist when an increase in inputs result in a proportional increase in outpu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conomies of scale involves either technical or pecuniary economi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5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E9585E0-AA75-4343-A0C5-3EF3FBB51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Diseconomies of scale can occur due to inefficienc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costs can decrease due to a decrease in factor prices,  technological improvement, or mergers reduce average fixed co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firm is the right size if it captures economies of scale but does not suffer diseconom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market is too small if it limits output to below economic capacity (SR) or below minimum efficient scale (LR)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effect of technological change on a firm’s cost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 Explain what is meant by the right size of firm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7:  Explain why markets can sometimes be too smal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511B12C-2B23-4F86-8224-E571DA699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477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riod of time during which all inputs are vari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roduction processes operate in the short run, and diminishing marginal productivity appli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long run, all costs are variable and diminishing marginal productivity does not app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m can plan as if it is in the long run, but it always operates in the short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2C95C904-FC94-4643-BF59-E16FE7D45E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Average Cost Curve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per unit costs of production in the long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stant Returns to Scale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the same percentage as the increase i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4388A38-7B5D-4DF0-8165-2EB9102A7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Costs of Production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 Four Plant Sizes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F05E6AA-16EB-4945-A31D-792A6504C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ftp://ftp.eppg.com/Sayre%20Micro%20images/Chapter%207/SAYRE-MICRO-7-F-7-1.jpg"/>
          <p:cNvPicPr/>
          <p:nvPr/>
        </p:nvPicPr>
        <p:blipFill>
          <a:blip r:embed="rId1"/>
          <a:srcRect l="37371" t="12916" r="8450" b="0"/>
          <a:stretch/>
        </p:blipFill>
        <p:spPr>
          <a:xfrm>
            <a:off x="649440" y="1563840"/>
            <a:ext cx="781344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532AE4E-5E85-43E6-B51C-B3783DEC2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CC18442-8DBE-4C9F-A3B9-A600B92A68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Plant 3    (It is the lowest average cost for that outpu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Rectangle 9"/>
          <p:cNvSpPr/>
          <p:nvPr/>
        </p:nvSpPr>
        <p:spPr>
          <a:xfrm>
            <a:off x="1552680" y="5359320"/>
            <a:ext cx="60703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C37886F-567D-43AD-BE0E-27501DA967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6  (It is the lowest average cost in all three plan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9"/>
          <p:cNvSpPr/>
          <p:nvPr/>
        </p:nvSpPr>
        <p:spPr>
          <a:xfrm>
            <a:off x="3295800" y="4508640"/>
            <a:ext cx="68076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149800" y="4916520"/>
            <a:ext cx="6811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978600" y="5340240"/>
            <a:ext cx="681120" cy="447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45Z</dcterms:modified>
  <cp:revision>255</cp:revision>
  <dc:subject/>
  <dc:title>Slide 1</dc:title>
</cp:coreProperties>
</file>